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D449-33E3-4CD1-90DC-D9AA57B4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FE3A-C588-486E-BD65-99E3930B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946-28FF-493A-84FE-27147594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824A-D3C9-4766-B07B-63EC7A75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28FB-F4B0-4542-81FA-9F0B5F08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D8D6-EE3F-45BC-9FB1-00F58A6B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6953-ABC7-420F-AC6D-C76BCCAE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EAF9-7D61-4A3B-ABD9-AB7E976F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7528-9601-4F79-828B-60044997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E465-138D-406D-9761-F5558A96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3B8E-CBBB-40B2-9460-6D065DAE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702B-FD31-44A4-9B06-3DB46CA0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F3C7-BC9F-4608-99AC-0860B53B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F98B-920F-4CBB-A9FF-E872A6FB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4EAD-1BE5-4057-AB08-7609957C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9EE3-2513-4231-84C8-30E93546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DEB1-ECD6-4F1A-8563-72B3745C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69B36-E3AE-4020-BA88-E428555E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C73F5-817F-490E-BF0C-94DD1559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B624C-889D-4BCE-A5DC-4D6CF0E6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11B63-DD3A-4E9B-AA5A-024ABD6C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F25E0-1BF9-41B6-BFF2-ACAC77CE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219-9A6B-4916-825F-7BF908AD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AA4D2-4FC0-43A0-9B97-51A3CEC5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064AC-6578-40B8-912D-928FEA84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9ACC1-9F27-43A9-AB0D-2D9FD614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FBE57-E7B0-47FC-9190-80E56393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86209-9167-415A-9F42-4E91417D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E1B0B-839A-499E-BCA5-A26A034C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251A5-D319-487B-B49B-FEC17488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90600-9F80-4A48-B2BD-7BA8EAC8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D629D-5980-4C92-BCBB-D4C7EBD7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32B67-CB7B-4EE1-A1C2-6B59CD01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F49-A601-465A-BF67-F3847066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36DEF-1C1B-4EF0-9AEA-25AF04D8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0A5F4-16FB-4B61-8074-0F35FA1C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826CA-6FFC-4FB3-8A13-85813809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AB36B-94FE-481C-A760-2F48775C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94D1A-8AB8-4743-8D3A-7215570F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5C8DA-048B-4CFD-96C3-C56AC492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4562F-B14A-461B-8DBB-66BFCC8C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9AA82-D8F4-49DF-A68C-E44DA667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9A137-78A8-49AC-9964-3BAE28D1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5ADFF-61E8-47E1-B356-0A4CA277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B68-4AD4-4B67-825C-2D9D73F0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11ACF-C4A3-4952-BC6E-51417BE7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A75EA-5699-4E17-A41D-C052C512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2AB91-AE0A-44FD-B7C7-67D1C321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01DCF-6A08-4914-8456-270E6718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0B5C9-01C4-49EA-9BA9-5E487917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4C325-6E23-493E-AFDE-D9F508D7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BDDD5-A8A5-4FC0-AAD5-41E34CD7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C3693-23BF-4882-B3BD-879AD60B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2D683-0417-4A1C-92E5-5AC7189D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92EFE-C57C-4DFA-9794-4DFA5E11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1C61-6356-4281-B268-E35C1ABA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B47BF-DB96-425D-BDF4-39237ABC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0A8-7117-4837-AE9C-CB9222B5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AC01-5DE8-4928-8203-01A3B70A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8C6F-3A73-40F4-BA2D-2CB6612E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75B4-E216-4460-9C73-A5D4543F4F81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7C65-6E05-472C-91C2-182A8AC54C0D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3C06-D125-4242-9645-A5E5DB4F3BD1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5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641520" y="6235200"/>
            <a:ext cx="3805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F636-4F3A-4B03-9037-F1361CBB61D9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orbel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639720" y="6235200"/>
            <a:ext cx="3803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9DB6-460F-4472-8F78-7F19F8B71415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25080"/>
            <a:ext cx="7696440" cy="114300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bdfbc4"/>
              </a:gs>
            </a:gsLst>
            <a:lin ang="18900000"/>
          </a:gra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rbel"/>
              </a:rPr>
              <a:t>ТЕМА:</a:t>
            </a:r>
            <a:endParaRPr b="0" lang="en-US" sz="2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09120" y="1752480"/>
            <a:ext cx="7696440" cy="452592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bdfbc4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Bahnschrift SemiBold SemiConden"/>
              </a:rPr>
              <a:t>Дружба и конфликты</a:t>
            </a:r>
            <a:endParaRPr b="0" lang="en-US" sz="4800" spc="-1" strike="noStrike">
              <a:solidFill>
                <a:srgbClr val="262626"/>
              </a:solidFill>
              <a:latin typeface="Corbel"/>
            </a:endParaRPr>
          </a:p>
        </p:txBody>
      </p:sp>
      <p:pic>
        <p:nvPicPr>
          <p:cNvPr id="209" name="Рисунок 1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51055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93800" y="444240"/>
            <a:ext cx="3956400" cy="68580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bdfbc4"/>
              </a:gs>
            </a:gsLst>
            <a:lin ang="18900000"/>
          </a:gra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orbel"/>
              </a:rPr>
              <a:t>ЗАДАЧИ:</a:t>
            </a:r>
            <a:endParaRPr b="0" lang="en-US" sz="32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09120" y="1130400"/>
            <a:ext cx="8153640" cy="461016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bdfbc4"/>
              </a:gs>
            </a:gsLst>
            <a:lin ang="18900000"/>
          </a:gradFill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1.</a:t>
            </a: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	</a:t>
            </a: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Познакомиться с понятием «конфликт», «ссора»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2.</a:t>
            </a: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	</a:t>
            </a: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Узнать  о способах разрешения конфликтных ситуаций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3.</a:t>
            </a: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	</a:t>
            </a: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Научиться вести себя правильно при возникновении конфликтной ситуации.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304920" y="50400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Ситуация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уроке физкультуры во время игры Маша нечаянно толкнула Катю. Катя упала, заплакала, обиделась на Машу.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2162160" y="3332160"/>
            <a:ext cx="42861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380880" y="648360"/>
            <a:ext cx="8610840" cy="338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Ситуация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время перемены Руслан и Миша одновременно захотели поиграть с одной и той же игрушкой. Стали вырывать её друг у друга из ру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Рисунок 1" descr=""/>
          <p:cNvPicPr/>
          <p:nvPr/>
        </p:nvPicPr>
        <p:blipFill>
          <a:blip r:embed="rId2"/>
          <a:stretch/>
        </p:blipFill>
        <p:spPr>
          <a:xfrm>
            <a:off x="2743200" y="3809880"/>
            <a:ext cx="291456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304920" y="661680"/>
            <a:ext cx="8381880" cy="283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Ситуация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стя нарисовал на листке портрет Юры и передал ему. Юра обиделся, порвал портрет на мелкие кусочки и бросил их на парту Ко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1" descr=""/>
          <p:cNvPicPr/>
          <p:nvPr/>
        </p:nvPicPr>
        <p:blipFill>
          <a:blip r:embed="rId2"/>
          <a:srcRect l="3851" t="0" r="5705" b="0"/>
          <a:stretch/>
        </p:blipFill>
        <p:spPr>
          <a:xfrm>
            <a:off x="1600200" y="3753000"/>
            <a:ext cx="3581280" cy="24285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" descr=""/>
          <p:cNvPicPr/>
          <p:nvPr/>
        </p:nvPicPr>
        <p:blipFill>
          <a:blip r:embed="rId3"/>
          <a:stretch/>
        </p:blipFill>
        <p:spPr>
          <a:xfrm>
            <a:off x="5867280" y="3733920"/>
            <a:ext cx="24386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533520" y="1981080"/>
            <a:ext cx="80010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304920" y="-360"/>
            <a:ext cx="40384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 flipH="1" flipV="1">
            <a:off x="4495320" y="-360"/>
            <a:ext cx="43434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533520" y="6172200"/>
            <a:ext cx="4038480" cy="7034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зывчив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4572000" y="6172200"/>
            <a:ext cx="396252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ботлив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33520" y="5486400"/>
            <a:ext cx="297180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ст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3505320" y="5486400"/>
            <a:ext cx="5029200" cy="703440"/>
          </a:xfrm>
          <a:prstGeom prst="rect">
            <a:avLst/>
          </a:prstGeom>
          <a:solidFill>
            <a:srgbClr val="738f97"/>
          </a:solidFill>
          <a:ln w="9360">
            <a:solidFill>
              <a:srgbClr val="738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ветствен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4800600" y="4800600"/>
            <a:ext cx="3733920" cy="703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жлив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3200400" y="4114800"/>
            <a:ext cx="5334120" cy="642600"/>
          </a:xfrm>
          <a:prstGeom prst="rect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брожелатель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33520" y="4800600"/>
            <a:ext cx="4267080" cy="70344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рпелив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533520" y="3429000"/>
            <a:ext cx="4647960" cy="7034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скорыст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533520" y="4114800"/>
            <a:ext cx="2819160" cy="642600"/>
          </a:xfrm>
          <a:prstGeom prst="rect">
            <a:avLst/>
          </a:prstGeom>
          <a:solidFill>
            <a:srgbClr val="66ffcc"/>
          </a:solidFill>
          <a:ln w="9360">
            <a:solidFill>
              <a:srgbClr val="bdfb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5105520" y="3505320"/>
            <a:ext cx="342900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дан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533520" y="2743200"/>
            <a:ext cx="3657600" cy="703440"/>
          </a:xfrm>
          <a:prstGeom prst="rect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важ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533520" y="1981080"/>
            <a:ext cx="4038480" cy="70344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2"/>
          <p:cNvSpPr/>
          <p:nvPr/>
        </p:nvSpPr>
        <p:spPr>
          <a:xfrm>
            <a:off x="4419720" y="0"/>
            <a:ext cx="4419360" cy="198108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3"/>
          <p:cNvSpPr/>
          <p:nvPr/>
        </p:nvSpPr>
        <p:spPr>
          <a:xfrm flipH="1">
            <a:off x="304920" y="0"/>
            <a:ext cx="4114800" cy="198108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4114800" y="2743200"/>
            <a:ext cx="4419720" cy="703440"/>
          </a:xfrm>
          <a:prstGeom prst="rect">
            <a:avLst/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мение прощ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4114800" y="1981080"/>
            <a:ext cx="4419720" cy="703440"/>
          </a:xfrm>
          <a:prstGeom prst="rect">
            <a:avLst/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увство юм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7" descr="13602097"/>
          <p:cNvPicPr/>
          <p:nvPr/>
        </p:nvPicPr>
        <p:blipFill>
          <a:blip r:embed="rId1"/>
          <a:stretch/>
        </p:blipFill>
        <p:spPr>
          <a:xfrm>
            <a:off x="2438280" y="5181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13325475"/>
          <p:cNvPicPr/>
          <p:nvPr/>
        </p:nvPicPr>
        <p:blipFill>
          <a:blip r:embed="rId2"/>
          <a:stretch/>
        </p:blipFill>
        <p:spPr>
          <a:xfrm>
            <a:off x="457200" y="1523880"/>
            <a:ext cx="1660680" cy="1722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3" descr="36700378963723"/>
          <p:cNvPicPr/>
          <p:nvPr/>
        </p:nvPicPr>
        <p:blipFill>
          <a:blip r:embed="rId3"/>
          <a:stretch/>
        </p:blipFill>
        <p:spPr>
          <a:xfrm>
            <a:off x="-2514600" y="-304920"/>
            <a:ext cx="14287680" cy="85726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4"/>
          <p:cNvSpPr/>
          <p:nvPr/>
        </p:nvSpPr>
        <p:spPr>
          <a:xfrm>
            <a:off x="304920" y="1828800"/>
            <a:ext cx="19047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2666880" y="2666880"/>
            <a:ext cx="1752840" cy="1524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572000" y="1447920"/>
            <a:ext cx="190512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7086600" y="2971800"/>
            <a:ext cx="18288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52280" y="3962520"/>
            <a:ext cx="1905120" cy="1828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2362320" y="5181480"/>
            <a:ext cx="2209680" cy="1828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724280" y="3352680"/>
            <a:ext cx="1981440" cy="1676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6858000" y="5181480"/>
            <a:ext cx="2057400" cy="152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9" descr="13602097"/>
          <p:cNvPicPr/>
          <p:nvPr/>
        </p:nvPicPr>
        <p:blipFill>
          <a:blip r:embed="rId4"/>
          <a:stretch/>
        </p:blipFill>
        <p:spPr>
          <a:xfrm>
            <a:off x="2514600" y="5029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3" descr="13325475"/>
          <p:cNvPicPr/>
          <p:nvPr/>
        </p:nvPicPr>
        <p:blipFill>
          <a:blip r:embed="rId5"/>
          <a:stretch/>
        </p:blipFill>
        <p:spPr>
          <a:xfrm>
            <a:off x="457200" y="1752480"/>
            <a:ext cx="1616040" cy="1676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5" descr="0_12a649_758e692a_orig"/>
          <p:cNvPicPr/>
          <p:nvPr/>
        </p:nvPicPr>
        <p:blipFill>
          <a:blip r:embed="rId6"/>
          <a:stretch/>
        </p:blipFill>
        <p:spPr>
          <a:xfrm>
            <a:off x="2743200" y="2590920"/>
            <a:ext cx="1679400" cy="1639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7" descr="0_6ce83_74037ec_orig"/>
          <p:cNvPicPr/>
          <p:nvPr/>
        </p:nvPicPr>
        <p:blipFill>
          <a:blip r:embed="rId7"/>
          <a:stretch/>
        </p:blipFill>
        <p:spPr>
          <a:xfrm>
            <a:off x="4800600" y="3276720"/>
            <a:ext cx="1535040" cy="1752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9" descr="11038868"/>
          <p:cNvPicPr/>
          <p:nvPr/>
        </p:nvPicPr>
        <p:blipFill>
          <a:blip r:embed="rId8"/>
          <a:stretch/>
        </p:blipFill>
        <p:spPr>
          <a:xfrm>
            <a:off x="4572000" y="1447920"/>
            <a:ext cx="1905120" cy="1587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1" descr="0_12bc14_a960d191_orig"/>
          <p:cNvPicPr/>
          <p:nvPr/>
        </p:nvPicPr>
        <p:blipFill>
          <a:blip r:embed="rId9"/>
          <a:stretch/>
        </p:blipFill>
        <p:spPr>
          <a:xfrm>
            <a:off x="380880" y="3962520"/>
            <a:ext cx="1386000" cy="1828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3" descr="Red-Roses-and-Green-Leaves-PNG-Clipart"/>
          <p:cNvPicPr/>
          <p:nvPr/>
        </p:nvPicPr>
        <p:blipFill>
          <a:blip r:embed="rId10"/>
          <a:stretch/>
        </p:blipFill>
        <p:spPr>
          <a:xfrm>
            <a:off x="7086600" y="3048120"/>
            <a:ext cx="1752480" cy="1751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5" descr="13173982"/>
          <p:cNvPicPr/>
          <p:nvPr/>
        </p:nvPicPr>
        <p:blipFill>
          <a:blip r:embed="rId11"/>
          <a:stretch/>
        </p:blipFill>
        <p:spPr>
          <a:xfrm>
            <a:off x="6934320" y="5275440"/>
            <a:ext cx="18288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762120"/>
          </a:xfrm>
          <a:prstGeom prst="rect">
            <a:avLst/>
          </a:prstGeom>
          <a:blipFill rotWithShape="0">
            <a:blip r:embed="rId2"/>
            <a:stretch/>
          </a:blip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 ПОМИРИТЬСЯ С ДРУГОМ:</a:t>
            </a:r>
            <a:endParaRPr b="0" lang="en-US" sz="3200" spc="-1" strike="noStrike">
              <a:solidFill>
                <a:srgbClr val="262626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6320" y="1294920"/>
            <a:ext cx="8686800" cy="533412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bafb5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Поговорите. Попытайся понять почему произошла ссора.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  <a:p>
            <a:pPr marL="609480" indent="-609480">
              <a:spcBef>
                <a:spcPts val="1001"/>
              </a:spcBef>
              <a:buClr>
                <a:srgbClr val="9bafb5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Встань на сторону друга, увидь ситуацию с его стороны.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  <a:p>
            <a:pPr marL="609480" indent="-609480">
              <a:spcBef>
                <a:spcPts val="1001"/>
              </a:spcBef>
              <a:buClr>
                <a:srgbClr val="9bafb5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Скажи доброе слово.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  <a:p>
            <a:pPr marL="609480" indent="-609480">
              <a:spcBef>
                <a:spcPts val="1001"/>
              </a:spcBef>
              <a:buClr>
                <a:srgbClr val="9bafb5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Сделай сюрприз.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  <a:p>
            <a:pPr marL="609480" indent="-609480">
              <a:spcBef>
                <a:spcPts val="1001"/>
              </a:spcBef>
              <a:buClr>
                <a:srgbClr val="9bafb5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orbel"/>
              </a:rPr>
              <a:t>Позови друга на прогулку.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90720"/>
          </a:xfrm>
          <a:prstGeom prst="rect">
            <a:avLst/>
          </a:prstGeom>
          <a:blipFill rotWithShape="0">
            <a:blip r:embed="rId1"/>
            <a:stretch/>
          </a:blip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orbel"/>
              </a:rPr>
              <a:t>СПАСИБО ЗА ВНИМАНИЕ!!!!</a:t>
            </a:r>
            <a:endParaRPr b="0" lang="en-US" sz="3600" spc="-1" strike="noStrike">
              <a:solidFill>
                <a:srgbClr val="262626"/>
              </a:solidFill>
              <a:latin typeface="Corbel"/>
            </a:endParaRPr>
          </a:p>
        </p:txBody>
      </p:sp>
      <p:pic>
        <p:nvPicPr>
          <p:cNvPr id="262" name="Рисунок 2" descr=""/>
          <p:cNvPicPr/>
          <p:nvPr/>
        </p:nvPicPr>
        <p:blipFill>
          <a:blip r:embed="rId2"/>
          <a:stretch/>
        </p:blipFill>
        <p:spPr>
          <a:xfrm>
            <a:off x="2514600" y="1676520"/>
            <a:ext cx="4851360" cy="40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ся Стоянова</dc:creator>
  <dc:description/>
  <dc:language>en-US</dc:language>
  <cp:lastModifiedBy>Alesya Stoyanova</cp:lastModifiedBy>
  <dcterms:modified xsi:type="dcterms:W3CDTF">2020-05-12T11:13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